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FD8C-E0E6-42F2-B313-69FABB3765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EFA-5284-4C5D-A77B-98F21376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1F0-55CC-4FE7-88BD-2FBA29E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273-C417-4C8A-B864-81F1BFD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187-A03E-4504-AD95-22DFC259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2DB-0F6B-4C8D-8650-086CF87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915-F2EB-4BEC-8594-FF07D0A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283-05BE-4C9E-B2F5-4A69765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4A3-D474-4406-AF5F-7827569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952-191A-4426-B219-125FDDC2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A66-0582-4234-AD0E-9608E0B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4A6-77A3-4D55-A170-9AFFE84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3E0-DFBD-4F29-B0B7-2CF6545B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8C2-6179-421B-BFA4-3DDAEA319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6440" y="213372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理学家曾做了一个实验：将一只跳蚤放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杯中。开始，跳蚤一下子就能从杯中跳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然后，心理学家在杯上盖了透明盖，跳蚤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然会往上跳，但是碰了几次盖后，碰疼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慢慢就不跳那么高了。这时，心理学家再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盖走，跳蚤还能跳出杯子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97320" y="457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提高自信心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64080" y="1066680"/>
            <a:ext cx="4228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善于发现自已的长处（学生发言，说说自已 最捧的项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生我才必有用”。每个人都有自己的长处和短处，只看到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己的不足，看不到自己的长处，容易使人产生自卑心理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  我是一个关心别人的人；我的独立生活能力很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的字写的很漂亮；   我喜欢小孩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看重自己；我有勇气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的饭做得不错，还烧得几个拿手菜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做完试题有认真检查的习惯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的课外书比别人看得多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同别人相处得很好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的计算速度特别快；我的脾气特别好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踢足球特别棒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   我是一个健全的人，不缺胳膊少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6440" y="40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0240" y="762120"/>
            <a:ext cx="5035680" cy="78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     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  <a:ea typeface="_x000b__x000c_"/>
              </a:rPr>
              <a:t>至关重要的法宝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  <a:ea typeface="_x000b__x000c_"/>
              </a:rPr>
              <a:t>--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  <a:ea typeface="_x000b__x000c_"/>
              </a:rPr>
              <a:t>自信</a:t>
            </a: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有一样东西，是你至关重要的法宝，那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信。自信不等于自高自大，不是自负清高，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信是心中崇高的勇敢的信仰与信念，自信与谦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实是姐妹的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许多朋友说：我不自信，我很自卑，因为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身上有许多天生具有的缺点，我有太多地方不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别人，我总想把事情干好却总也干不好，我的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病太多了，我对自己太失望。</a:t>
            </a:r>
            <a:br>
              <a:rPr sz="2800"/>
            </a:b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清华大学工物系工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班 　王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57440" y="533520"/>
            <a:ext cx="4641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但是，让我来告诉你，朋友，你存在在这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宇宙中，你是独一无二的主体，你是大自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奇迹。你不比别人多，也不比别人少，但你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任何其他人又完全不同，只要你能勇于展示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己的才华、个性及风采，那么，你就没有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去仰视别人，你就没有理由自卑，因为你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一道独特的风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42480" y="787320"/>
            <a:ext cx="5576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缺点不算什么，不足也没什么了不起，它们仅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风景的一部分。风景的伟大在于独特而非完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因为世界上只有个性而没有完美。个性时刻随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，站着是一座山，倒下便是路基；完整时给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启示，粉碎时使人警惕。你不必再徒劳地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仿别人，而要充分展示自己的个性。你要学会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存异，不要害怕与众不同；相反，你应利用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使得你的为人和事业都独树一帜，你将为此而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豪，那就是充分调动自己的能力使之达到最高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界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            清华大学工物系工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班 　王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9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26360" y="220968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给自已一个微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的微笑首先是给自已的，当你绽开笑脸时，实际上在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已一个暗示：我很快乐。微笑将驱走你的焦虑和烦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带来轻松、愉快和自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天多给自已几个笑脸，大家能不能做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27040" y="152280"/>
            <a:ext cx="5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学会积极的自我暗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9040" y="685800"/>
            <a:ext cx="545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心理学中有一个实验。以一个死囚犯为样本，对他说：“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们执行死刑的方式是使你放血而死，这是你死前对人类做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点有益的事情。”这位犯人表示同意这样做。实验要手术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里进行，犯人在一个小间里躺在床上，一只手伸到隔壁的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大间。他听到隔壁的护士与医生在忙碌着，准备对他放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护士问医生：“放血瓶准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够吗？”医生回答：“不够，这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块头大，要准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”。护士在他的手臂上用刀尖点一下，算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始放血，并在他手臂上方用一根细管子放热水，水顺着手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滴滴地滴进瓶子里。犯人只觉得自已的血在一滴一滴地流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滴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，他已经休克，滴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他已经死亡，死亡的症状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放血而死一样。实际上他一滴血也没有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65800" y="477720"/>
            <a:ext cx="550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为什么会死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“自已的血正在流淌，自已正在死去”的心理暗示致他于死。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暗示的力量实在太大了。消极的自我暗示会对人产生极大的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用，积极的自我暗示则能够激励人、鼓舞人，增强自信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7320" y="2327400"/>
            <a:ext cx="530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，有一位美国击运动员，知道在将举行的比赛中会遇到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位曾经两次击败过自已的有古巴选手，因而缺乏信心。心理学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他反复播放一段讲话，叙述在未来的比赛中，为什么那古巴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手反而一见他就害怕的理由。他听了几十次，越听越有道理，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从害怕的情绪中解脱出来，并在泛美运动会上战胜了对手，夺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冠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8880" y="4689360"/>
            <a:ext cx="532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面的故事可以看出，心理暗示对人的作用非常大。同学们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有没有过心理暗示影响自已学习、生活的例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们常常听到好多人都用自已的习惯用语，它们以很高的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率出现。比如有人喜欢说“烦死了”有人喜欢说“没问题”“我能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欣赏什么样的口头语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55720" y="144792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能为自已设计一个鼓舞人心的口头语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如“我能行”、“我再努力一把力就会做好”、“我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会被困难吓倒”“我很捧”“没关系”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当我们面对挑战和挫折时，进行积极的自我暗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希望同学们在你们面对挑战，遇到困难的时候，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对自已说：“我一定能做到”有了自信就等于成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了一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22560" y="1066680"/>
            <a:ext cx="47462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、学会自我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面对同样的玫瑰，有人说这么美丽的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上怎么长了刺，也有人会说怎么刺上会长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这么美丽的花。悲观与乐观、消极与积极的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别就在于此。它启示我们在自卑的时要换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角度思考，从另一方面来激励自已，不要总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沉浸在失意之中。要坚信，这世界上没有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谓的失败，失败过并不等于失败者，只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走向成功的曲折；没有最好，只有更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49680" y="533520"/>
            <a:ext cx="6860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齐声朗读名人名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先相信自已，然后别人才会相信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屠格列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不是因为这些事情难以做到我们才失去信心，是因为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缺乏信心这些事情才难以做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塞涅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成功者的态度包含众多的成分。但是，最重要的是具有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信心。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丹妮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威特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缺乏自信常常是性格软弱和事业不能成功的主要原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索洛维契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哪怕是最果断的人，只要他失去自信，也会变成懦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德拉克罗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83800" y="83808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跳蚤再也跳不出杯子了。因为它几次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跳出杯盖后，便失去了信心，也没有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初那种积极进取的勇气和动力，最终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失败了。在我们的学习和生活中也是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此，今天我们的讨论话题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走向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69160" y="1371600"/>
            <a:ext cx="49356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今天我们一起探讨了走向成功的一个重要因素，那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自信我们做 任何事情，首先要对自已有信心。因为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了信心，才会有热情，有动力，才能专注其中，倾力去做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那么再难的事情也会取得成功。相反，你若认为自已连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单的事也无能为力，那么你就永远不会成功。每一件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都 由信心开始，并由信心跨出第一步，才会取得成功。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学们记住一句话：自信是成功的基石。当我们面对挑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遇到困难的时候，请对自已说：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我一定能做到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52840" y="205740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祝 你 成 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44920" y="2612880"/>
            <a:ext cx="567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00"/>
                </a:solidFill>
                <a:latin typeface="Times New Roman"/>
              </a:rPr>
              <a:t>自信</a:t>
            </a:r>
            <a:r>
              <a:rPr b="0" lang="zh-CN" sz="8000" spc="-1" strike="noStrike">
                <a:solidFill>
                  <a:srgbClr val="009900"/>
                </a:solidFill>
                <a:latin typeface="Times New Roman"/>
              </a:rPr>
              <a:t>----</a:t>
            </a:r>
            <a:r>
              <a:rPr b="0" lang="zh-CN" sz="8000" spc="-1" strike="noStrike">
                <a:solidFill>
                  <a:srgbClr val="009900"/>
                </a:solidFill>
                <a:latin typeface="Times New Roman"/>
              </a:rPr>
              <a:t>走向成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92240" y="228600"/>
            <a:ext cx="52768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自信的价值 </a:t>
            </a:r>
            <a:br>
              <a:rPr sz="66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，美国一位名叫乔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赫伯特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销员，成功地把一把斧子推销给了小布什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布鲁金斯学会得知这一消息，把一只刻有“最伟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销员”的金靴子赠与了他。这是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以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学会的一名学员成功地把一台微型录音机卖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尼克松后，又一学员跨过如此高的门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布鲁金斯学会创建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以培养世界上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杰出的推销员著称于世。它有一个传统，在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学员毕业时，都设计一道最能体现推销员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的实习题，让学生去完成。克林顿当政期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99320" y="914400"/>
            <a:ext cx="466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出了这么一个题目：请把一条三角裤推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现任总统。八年间，有无数个学员为此绞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脑汁，最后都无功而返。克林顿卸任后，布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斯学会把题目换成：请将一把斧子推销给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布什总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鉴于前八年的失败与教训，许多学员知难而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别学员甚至认为，这道毕业实习题会和克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顿当政时一样毫无结果，因为现在的总统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不缺，即使缺什么，也用不着他们亲自购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退一步说，即使他们亲自购买，也不一定正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你去推销的时候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22000" y="685800"/>
            <a:ext cx="46598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，乔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伯特却做到了，并且没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少工夫。一位记者在采访他的时候，他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说的：我认为，把一把斧子推销给小布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统是完全可能的，因为小布什总统在得克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斯州有一座农场，那里长着许多树。于是我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写了一封信，说，有一次，我有幸参观您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农场，发现那里长着许多矢菊树，有些已经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掉，木质已变得松软。我想，您一定需要一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斧头，但是从您现在的体质来看，这种小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显然太轻，因此您仍然需要一把不甚锋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老斧头。现在我这儿正好有一把这样的斧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是我祖父留给我的，很适合砍伐枯树。倘您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兴趣的话，请按这封信所留的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箱，给予回复……最后他就给我汇来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84040" y="1447920"/>
            <a:ext cx="524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乔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赫伯特成功后，布鲁金斯学会在表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的时候说：金靴子奖已设置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间，布鲁金斯学会培养了数以万计的推销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造就了数以百计的百万富翁，这只金靴子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没有授予他们，是因为我们一直想寻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么一个人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个人从不因有人说某一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标不能实现而放弃，从不因某件事情难以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到而失去自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8760" y="1371600"/>
            <a:ext cx="51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乔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赫伯特的故事在世界各大网站公布之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些读者纷纷搜索布鲁金斯学会的网站，他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现在该学会的网页上贴着这样一句格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因为有些事情难以做到，我们才失去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信；而是因为我们失去了自信，有些事情才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得难以做到。</a:t>
            </a:r>
            <a:br>
              <a:rPr sz="28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们说说乔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赫伯特取得成功的原因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？同学们有没有过因为缺乏自信心影响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的情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34760" y="838080"/>
            <a:ext cx="5839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同学认为，我很有进取心，也很自信，但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生就笨，不可能取得成功。近代比较权威的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法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人只运用了自身潜力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也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，最成功的人只运用了自身潜力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苏联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者做了一个形象的比喻，一个正常人如果发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身潜力的一半，那么他可以将叠起来几人厚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全苏百科全书背得滚瓜烂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，别人能做到的事，我们自已也一定能做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信自已，只要坚持不懈地积极进取，就一定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成功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3:03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0:07Z</dcterms:modified>
  <cp:revision>15</cp:revision>
  <dc:subject>主题班会课件(分28大类): http://shop62905894.taobao.com</dc:subject>
  <dc:title>主题班会课件(分28大类): http://shop62905894.taobao.com</dc:title>
</cp:coreProperties>
</file>